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3E8C0-4B8B-4EB0-A8B8-53C2497A7CFD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eated by Educational Technology Network. www.edtechnetwork.com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562D0-EF50-43F0-9BA7-9B11E2CF7E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86571-8FA0-493D-89D1-EBC5BC329E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06621-6389-4A79-ABAB-30F0D1A6AF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93804-6FE2-4CD6-B479-4B1B7BD68F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183EA-DC11-4B20-9123-4CE94A1C63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1EA90-3468-468D-AAA5-78D2615761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58C51-AF88-48F7-B3E1-6CFA6D0A6B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26E7B-527D-49F9-821B-55F7E03D2B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0CE6E-2CF5-4F73-9044-6366051335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C88B1-733A-4CF5-AB72-962636B784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3D02C-4B2C-4250-BF2F-0AC25F9A55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A3D64-9B51-4FB6-B56F-75897F6DA1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481E2-C52A-48EE-9A65-6E1CE69BA5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07F68-D54B-4375-8DFA-8EF8129E06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A6552-6BFD-4F5F-8532-25C4019F72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3223B-BA7C-4D4A-9D3F-10412ECD7D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7BCDF-2741-4511-A2BC-95C19E73EE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CD289-D380-4A90-8256-C1A6F2DDDD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69EF6-405B-432E-B4CB-74DCABB70D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F4938-DA68-4A3E-89BF-61AA123914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0889C-BB54-4B44-8EC3-F7026ACC8A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ACE2E-4274-4F68-95A5-8E3C13B376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CA454-559F-45FE-8F8F-81E894D59D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C0CB4-EC8F-4827-9AB7-3AC9F8415D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6A385-345A-46AB-9321-CC04E0F8B2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6B8DD-56FC-4B93-9FE7-498DE58AA9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704AB-1698-4FB6-A0E8-8DAE4C09FD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7E31A-C87F-4A6C-9808-091E805F2C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E8511-828C-48AF-8FC7-1C2F4D3A33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6AA7F-CF62-4838-91E6-BD872FF23B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A9FEB-CA9D-411D-9316-E634916239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A038B-7BD5-4BA6-B980-08FC641D8B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1D234-01FD-4D6A-8154-F6DFD965A9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0D898-5ACF-4A1D-8DC9-0000F42119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535AF-6C0A-4F91-B3DB-FBA9A2EC3A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A1B46-3F65-4DA1-84DA-4DCBFCD83A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065CB-DC69-46F0-A4EF-7FA2AF631E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18E03-6F89-45C2-A0D8-D314AE9FCE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9EE72-34DB-4CFC-AC61-DC360EB712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5F5BC-9253-4773-A0F4-276399F4D7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8C4F1-9C24-4829-878F-D7F5E39569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93EAC-C592-4358-B61A-48BEF4A1D0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A8409-976E-43BD-B6A5-1E562F572E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CC980-4BA5-42C3-9893-71DFA9ECE6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93AF0-B70A-4F2E-B9D1-B064154BAF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CFA8B-5826-437A-83C2-698AC77041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69355-DE1B-4103-8B30-ACFD622F26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3030D-C6B3-4E3A-83CC-6A420392E6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DE28B-EE68-44A7-9370-2CBA92BB3D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2BB72-3027-498E-906C-5AE47F86B8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DF6D0-339D-4FD1-8D1D-20CB94CB88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0FED6-DF49-4FAB-9301-CCFE6042B8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7CCC-07BA-4F56-A530-5A931DF7D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B9AB-0917-4959-9BB9-4045E13A8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B30D-27A4-4756-8D2D-09A02B73D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F10C-A4D6-41CA-B678-64C74C411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3E1DA-E920-482C-8EFF-0BA464967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7ADD0-4FA6-41F3-93D4-4DE7B5934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6E352-6E75-4BF8-94E4-E03AFAA5C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E44BE-5730-49B1-9764-4753B475E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E8B31-0CC5-4E22-BEAC-B992DD09B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7EAF2-4570-442B-B837-635BAA544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33E56-6989-4C0A-B053-CE31EFE68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81F4-7CFB-462C-854E-23AA7DBE5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F3A0A-ACC6-43DA-80C2-5DB840681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BD08A-6F5C-4A08-9684-17740A835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68657-61B4-4970-87A7-AED492F37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C1BED-1D42-4EFA-AAFE-295807226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2E5C6-7178-40AC-BA3C-D7C8523D5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D52A-FD19-4017-88E8-CEAA9308E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FC89-7B8F-4D38-9BDD-A160158E9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C2A2-0EDC-49EF-A268-CA7B2657A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C870-0363-4042-AE94-135833E26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9F2A-382C-4AA8-9BD2-8E2CF72EA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2AE4-3FFB-4BB4-9E73-6FC43589F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10AD-121E-42F2-966C-205E85706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f56fb">
            <a:alpha val="2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75D66-A356-4F7B-A423-411FC6404BC5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f56fb">
            <a:alpha val="2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13.xml"/><Relationship Id="rId3" Type="http://schemas.openxmlformats.org/officeDocument/2006/relationships/slide" Target="slide23.xml"/><Relationship Id="rId4" Type="http://schemas.openxmlformats.org/officeDocument/2006/relationships/slide" Target="slide33.xml"/><Relationship Id="rId5" Type="http://schemas.openxmlformats.org/officeDocument/2006/relationships/slide" Target="slide43.xml"/><Relationship Id="rId6" Type="http://schemas.openxmlformats.org/officeDocument/2006/relationships/slide" Target="slide5.xml"/><Relationship Id="rId7" Type="http://schemas.openxmlformats.org/officeDocument/2006/relationships/slide" Target="slide15.xml"/><Relationship Id="rId8" Type="http://schemas.openxmlformats.org/officeDocument/2006/relationships/slide" Target="slide25.xml"/><Relationship Id="rId9" Type="http://schemas.openxmlformats.org/officeDocument/2006/relationships/slide" Target="slide35.xml"/><Relationship Id="rId10" Type="http://schemas.openxmlformats.org/officeDocument/2006/relationships/slide" Target="slide45.xml"/><Relationship Id="rId11" Type="http://schemas.openxmlformats.org/officeDocument/2006/relationships/slide" Target="slide7.xml"/><Relationship Id="rId12" Type="http://schemas.openxmlformats.org/officeDocument/2006/relationships/slide" Target="slide17.xml"/><Relationship Id="rId13" Type="http://schemas.openxmlformats.org/officeDocument/2006/relationships/slide" Target="slide27.xml"/><Relationship Id="rId14" Type="http://schemas.openxmlformats.org/officeDocument/2006/relationships/slide" Target="slide37.xml"/><Relationship Id="rId15" Type="http://schemas.openxmlformats.org/officeDocument/2006/relationships/slide" Target="slide47.xml"/><Relationship Id="rId16" Type="http://schemas.openxmlformats.org/officeDocument/2006/relationships/slide" Target="slide9.xml"/><Relationship Id="rId17" Type="http://schemas.openxmlformats.org/officeDocument/2006/relationships/slide" Target="slide19.xml"/><Relationship Id="rId18" Type="http://schemas.openxmlformats.org/officeDocument/2006/relationships/slide" Target="slide29.xml"/><Relationship Id="rId19" Type="http://schemas.openxmlformats.org/officeDocument/2006/relationships/slide" Target="slide39.xml"/><Relationship Id="rId20" Type="http://schemas.openxmlformats.org/officeDocument/2006/relationships/slide" Target="slide49.xml"/><Relationship Id="rId21" Type="http://schemas.openxmlformats.org/officeDocument/2006/relationships/slide" Target="slide11.xml"/><Relationship Id="rId22" Type="http://schemas.openxmlformats.org/officeDocument/2006/relationships/slide" Target="slide21.xml"/><Relationship Id="rId23" Type="http://schemas.openxmlformats.org/officeDocument/2006/relationships/slide" Target="slide31.xml"/><Relationship Id="rId24" Type="http://schemas.openxmlformats.org/officeDocument/2006/relationships/slide" Target="slide41.xml"/><Relationship Id="rId25" Type="http://schemas.openxmlformats.org/officeDocument/2006/relationships/slideLayout" Target="../slideLayouts/slideLayout1.xml"/><Relationship Id="rId2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3" descr="JeopardyIcon5.png"/>
          <p:cNvPicPr/>
          <p:nvPr/>
        </p:nvPicPr>
        <p:blipFill>
          <a:blip r:embed="rId1"/>
          <a:stretch/>
        </p:blipFill>
        <p:spPr>
          <a:xfrm>
            <a:off x="0" y="171360"/>
            <a:ext cx="9280440" cy="3867120"/>
          </a:xfrm>
          <a:prstGeom prst="rect">
            <a:avLst/>
          </a:prstGeom>
          <a:ln w="0">
            <a:noFill/>
          </a:ln>
        </p:spPr>
      </p:pic>
      <p:pic>
        <p:nvPicPr>
          <p:cNvPr id="90" name="TextBox 4" descr=""/>
          <p:cNvPicPr/>
          <p:nvPr/>
        </p:nvPicPr>
        <p:blipFill>
          <a:blip r:embed="rId2"/>
          <a:stretch/>
        </p:blipFill>
        <p:spPr>
          <a:xfrm>
            <a:off x="987480" y="4170240"/>
            <a:ext cx="7089840" cy="10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et Set – 4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0948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67=|M|+|T|-54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|T|=54, |M|=67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ice |M| cannot be greater than 67, since a union of two sets is the same size or larger than either one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4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et Set - 5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the numbers 1-20, primes make up 40%. Numbers divisible by 2 make up 50%. How many numbers (not percent) are neither prime nor divisible by 2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et Set – 5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8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  <p:pic>
        <p:nvPicPr>
          <p:cNvPr id="119" name="Content Placeholder 3" descr="set q 5 sol.gif"/>
          <p:cNvPicPr/>
          <p:nvPr/>
        </p:nvPicPr>
        <p:blipFill>
          <a:blip r:embed="rId2"/>
          <a:srcRect l="0" t="-86651" r="0" b="-8665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20" name="TextBox 4"/>
          <p:cNvSpPr/>
          <p:nvPr/>
        </p:nvSpPr>
        <p:spPr>
          <a:xfrm>
            <a:off x="838080" y="5029200"/>
            <a:ext cx="28195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^^^ should b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PUT)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or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gically Speaking- 1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2" name="Content Placeholder 1" descr="logic q 1.gif"/>
          <p:cNvPicPr/>
          <p:nvPr/>
        </p:nvPicPr>
        <p:blipFill>
          <a:blip r:embed="rId1"/>
          <a:srcRect l="0" t="-174322" r="0" b="-17432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gically Speaking– 1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es, that statement is always true. It is actually the logic behind proof by contradiction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5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gically Speaking - 2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the variable in the following predicate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makes a man an earnest, caring and compassionate is his empathy; without it he is nothing.”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gically Speaking – 2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mpath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0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gically Speaking - 3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2" name="Content Placeholder 1" descr="logic q 3.gif"/>
          <p:cNvPicPr/>
          <p:nvPr/>
        </p:nvPicPr>
        <p:blipFill>
          <a:blip r:embed="rId1"/>
          <a:srcRect l="0" t="-187240" r="0" b="-18724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gically Speaking – 3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u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5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gically Speaking - 4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7" name="Content Placeholder 1" descr="logic q 5.gif"/>
          <p:cNvPicPr/>
          <p:nvPr/>
        </p:nvPicPr>
        <p:blipFill>
          <a:blip r:embed="rId1"/>
          <a:srcRect l="0" t="-33656" r="0" b="-33656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  <a:gridCol w="1828800"/>
                <a:gridCol w="1828800"/>
                <a:gridCol w="1828800"/>
              </a:tblGrid>
              <a:tr h="114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t Se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gically speaking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lative term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d squa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ee app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</a:tr>
              <a:tr h="114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1" action="ppaction://hlinksldjump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2" action="ppaction://hlinksldjump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3" action="ppaction://hlinksldjump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4" action="ppaction://hlinksldjump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5" action="ppaction://hlinksldjump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</a:tr>
              <a:tr h="114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6" action="ppaction://hlinksldjump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7" action="ppaction://hlinksldjump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8" action="ppaction://hlinksldjump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9" action="ppaction://hlinksldjump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10" action="ppaction://hlinksldjump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</a:tr>
              <a:tr h="114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11" action="ppaction://hlinksldjump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12" action="ppaction://hlinksldjump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13" action="ppaction://hlinksldjump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14" action="ppaction://hlinksldjump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15" action="ppaction://hlinksldjump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</a:tr>
              <a:tr h="114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16" action="ppaction://hlinksldjump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17" action="ppaction://hlinksldjump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18" action="ppaction://hlinksldjump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19" action="ppaction://hlinksldjump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20" action="ppaction://hlinksldjump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</a:tr>
              <a:tr h="114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21" action="ppaction://hlinksldjump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22" action="ppaction://hlinksldjump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23" action="ppaction://hlinksldjump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24" action="ppaction://hlinksldjump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gically Speaking – 4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lse. p(x) is true and q(x) is fals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0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gically Speaking- 5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ider the following propositions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wet bird never flies at night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’ll only catch the red eye to LA if it’s cheaper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l ticket prices drop on Wednesdays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 Wednesdays we wear pink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ue or false: If I’m not wearing pink I’m a wet bir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gically Speaking – 5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ep, I’m a wet bir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5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lative terms - 1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7" name="Content Placeholder 1" descr="relation q 1.gif"/>
          <p:cNvPicPr/>
          <p:nvPr/>
        </p:nvPicPr>
        <p:blipFill>
          <a:blip r:embed="rId1"/>
          <a:srcRect l="0" t="-259104" r="0" b="-259104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lative terms – 1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; 0 is even, so x is not related to x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50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lative terms - 2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y pantry has eggs, milk, sugar, flour, brown sugar, chocolate chips, butter, apples and cinnam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want to make snickerdoodles, chocolate chip cookies and apple pi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ider the relation x “is an ingredient of” y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assify this relation!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lative terms – 2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is irreflexive, antisymmetric and intransitive (not transitive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nless you put cookies in your pie, which is either genius or madnes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55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lative terms - 3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t S be the set of my siblings (no twins) and let r be the relation x “is older than” 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es r well order S? If so, what is the “least” element of S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lative terms – 3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es!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rreflexive: nobody is older than themselv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tisymmetric: if x is older than y, y is not older than x (since there are no twins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itive: Obviou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ccessor: We can always say one is older than the othe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ast” element: Whoever is the oldest has the property x R y for all y not equal to x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0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lative terms - 4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2" name="Content Placeholder 1" descr="relations q 4.gif"/>
          <p:cNvPicPr/>
          <p:nvPr/>
        </p:nvPicPr>
        <p:blipFill>
          <a:blip r:embed="rId1"/>
          <a:srcRect l="0" t="-185723" r="0" b="-185723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et Set - 1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3" name="Picture 4" descr="sets q 1-1.png"/>
          <p:cNvPicPr/>
          <p:nvPr/>
        </p:nvPicPr>
        <p:blipFill>
          <a:blip r:embed="rId1"/>
          <a:srcRect l="5406" t="7926" r="12164" b="7902"/>
          <a:stretch/>
        </p:blipFill>
        <p:spPr>
          <a:xfrm>
            <a:off x="457200" y="3124080"/>
            <a:ext cx="3308400" cy="16462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sets q 1-2.png"/>
          <p:cNvPicPr/>
          <p:nvPr/>
        </p:nvPicPr>
        <p:blipFill>
          <a:blip r:embed="rId2"/>
          <a:stretch/>
        </p:blipFill>
        <p:spPr>
          <a:xfrm>
            <a:off x="5867280" y="2971800"/>
            <a:ext cx="2590920" cy="19432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sets q 1-3.png"/>
          <p:cNvPicPr/>
          <p:nvPr/>
        </p:nvPicPr>
        <p:blipFill>
          <a:blip r:embed="rId3"/>
          <a:srcRect l="6523" t="21566" r="27710" b="16715"/>
          <a:stretch/>
        </p:blipFill>
        <p:spPr>
          <a:xfrm>
            <a:off x="3429000" y="4800600"/>
            <a:ext cx="2163600" cy="1521000"/>
          </a:xfrm>
          <a:prstGeom prst="rect">
            <a:avLst/>
          </a:prstGeom>
          <a:ln w="0">
            <a:noFill/>
          </a:ln>
        </p:spPr>
      </p:pic>
      <p:pic>
        <p:nvPicPr>
          <p:cNvPr id="96" name="Content Placeholder 8" descr="sets q 1.gif"/>
          <p:cNvPicPr/>
          <p:nvPr/>
        </p:nvPicPr>
        <p:blipFill>
          <a:blip r:embed="rId4"/>
          <a:srcRect l="0" t="-251229" r="0" b="-251229"/>
          <a:stretch/>
        </p:blipFill>
        <p:spPr>
          <a:xfrm>
            <a:off x="380880" y="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lative terms – 4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 is antisymmetric. If Ak is in Am, k&lt;m, so by definition Am is not in Ak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5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lative terms - 5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7" name="Content Placeholder 1" descr="relations q 5.gif"/>
          <p:cNvPicPr/>
          <p:nvPr/>
        </p:nvPicPr>
        <p:blipFill>
          <a:blip r:embed="rId1"/>
          <a:srcRect l="0" t="-119433" r="0" b="-119433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lative terms – 5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9" name="Content Placeholder 1" descr="relations q 5 sol.gif"/>
          <p:cNvPicPr/>
          <p:nvPr/>
        </p:nvPicPr>
        <p:blipFill>
          <a:blip r:embed="rId1"/>
          <a:srcRect l="0" t="-58002" r="0" b="-5800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2" descr="C:\Users\Robin\AppData\Local\Microsoft\Windows\Temporary Internet Files\Content.IE5\UKPIYV1G\MCj04421220000[1].png"/>
          <p:cNvPicPr/>
          <p:nvPr/>
        </p:nvPicPr>
        <p:blipFill>
          <a:blip r:embed="rId2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 squad- 1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72" name="Content Placeholder 1" descr="mod q 1.gif"/>
          <p:cNvPicPr/>
          <p:nvPr/>
        </p:nvPicPr>
        <p:blipFill>
          <a:blip r:embed="rId1"/>
          <a:srcRect l="0" t="-332703" r="0" b="-332703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 squad 4 – 1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276720" y="2895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st digit of 13^2=9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st digit of 17^3=4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, 6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75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 Squad - 2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ppose that a number is multiplied by 4. The result has remainder 2 when divided by 5. If the number is less than 15 but greater than 10, what is the number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 squad – 2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x=2(mod5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X=3(mod5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&lt;x&lt;15 implies x=2(5)+3=13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80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 Squad - 3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 3 be the last digit of any perfect square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 Squad – 3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84" name="Content Placeholder 1" descr="mod q 3 sol.gif"/>
          <p:cNvPicPr/>
          <p:nvPr/>
        </p:nvPicPr>
        <p:blipFill>
          <a:blip r:embed="rId1"/>
          <a:srcRect l="0" t="-161728" r="0" b="-161728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" descr="C:\Users\Robin\AppData\Local\Microsoft\Windows\Temporary Internet Files\Content.IE5\UKPIYV1G\MCj04421220000[1].png"/>
          <p:cNvPicPr/>
          <p:nvPr/>
        </p:nvPicPr>
        <p:blipFill>
          <a:blip r:embed="rId2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 Squad - 4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87" name="Content Placeholder 1" descr="mod q 4.gif"/>
          <p:cNvPicPr/>
          <p:nvPr/>
        </p:nvPicPr>
        <p:blipFill>
          <a:blip r:embed="rId1"/>
          <a:srcRect l="0" t="-61280" r="0" b="-6128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et Set – 1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8" name="Content Placeholder 1" descr="sets q 1-3.png"/>
          <p:cNvPicPr/>
          <p:nvPr/>
        </p:nvPicPr>
        <p:blipFill>
          <a:blip r:embed="rId1"/>
          <a:srcRect l="0" t="13287" r="0" b="13287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" descr="C:\Users\Robin\AppData\Local\Microsoft\Windows\Temporary Internet Files\Content.IE5\UKPIYV1G\MCj04421220000[1].png"/>
          <p:cNvPicPr/>
          <p:nvPr/>
        </p:nvPicPr>
        <p:blipFill>
          <a:blip r:embed="rId2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 Squad – 4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89" name="Content Placeholder 1" descr="mod q 4 sol.gif"/>
          <p:cNvPicPr/>
          <p:nvPr/>
        </p:nvPicPr>
        <p:blipFill>
          <a:blip r:embed="rId1"/>
          <a:srcRect l="0" t="-36345" r="0" b="-36345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2" descr="C:\Users\Robin\AppData\Local\Microsoft\Windows\Temporary Internet Files\Content.IE5\UKPIYV1G\MCj04421220000[1].png"/>
          <p:cNvPicPr/>
          <p:nvPr/>
        </p:nvPicPr>
        <p:blipFill>
          <a:blip r:embed="rId2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 Squad - 5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92" name="Content Placeholder 1" descr="mod q 5.gif"/>
          <p:cNvPicPr/>
          <p:nvPr/>
        </p:nvPicPr>
        <p:blipFill>
          <a:blip r:embed="rId1"/>
          <a:srcRect l="0" t="-90522" r="0" b="-9052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93" name="Rectangle 3" descr=""/>
          <p:cNvPicPr/>
          <p:nvPr/>
        </p:nvPicPr>
        <p:blipFill>
          <a:blip r:embed="rId2"/>
          <a:stretch/>
        </p:blipFill>
        <p:spPr>
          <a:xfrm>
            <a:off x="1749600" y="1511280"/>
            <a:ext cx="5541840" cy="9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 Squad – 5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95" name="Content Placeholder 1" descr="mod q 5 sol.gif"/>
          <p:cNvPicPr/>
          <p:nvPr/>
        </p:nvPicPr>
        <p:blipFill>
          <a:blip r:embed="rId1"/>
          <a:srcRect l="0" t="-71597" r="0" b="-71597"/>
          <a:stretch/>
        </p:blipFill>
        <p:spPr>
          <a:xfrm>
            <a:off x="457200" y="457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2" descr="C:\Users\Robin\AppData\Local\Microsoft\Windows\Temporary Internet Files\Content.IE5\UKPIYV1G\MCj04421220000[1].png"/>
          <p:cNvPicPr/>
          <p:nvPr/>
        </p:nvPicPr>
        <p:blipFill>
          <a:blip r:embed="rId2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  <p:sp>
        <p:nvSpPr>
          <p:cNvPr id="197" name="TextBox 2"/>
          <p:cNvSpPr/>
          <p:nvPr/>
        </p:nvSpPr>
        <p:spPr>
          <a:xfrm>
            <a:off x="762120" y="4038480"/>
            <a:ext cx="441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: this is harder than what will be on your 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ree apps - 1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’s Tuesday. What day of the week will it be 211 days from now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ree apps – 1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01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dnesday. 211=1(mod 7), so we will be one day further into the week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ree apps - 2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1 people like pets. 11 people like dogs, 7 people like cats, and 3 people like neither. How many people like both dogs and cats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ree apps – 2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0! |(AUB)’|=3, so |AUB|=18. But |AUB|=|A|+|B|-|AnB|, i.e. 18=11+7-|AnB|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07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ree apps - 3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a recent survey, 150 people like chocolate and dislike pie. If 200 people were surveyed, how many people dislike chocolate or like pie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ree apps – 3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00-150=50. This is an application of deMorgan’s law for set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12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ree apps - 4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crank works two gears. The first gear has 5 spokes and moves 2 spokes every crank. The second gear has 7 spokes and moves 4 spokes with every crank. How many cranks are needed so that both gears are on their third spoke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et Set - 2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1" name="Content Placeholder 1" descr="set q 2.gif"/>
          <p:cNvPicPr/>
          <p:nvPr/>
        </p:nvPicPr>
        <p:blipFill>
          <a:blip r:embed="rId1"/>
          <a:srcRect l="0" t="-35579" r="0" b="-35579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ree apps – 4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16" name="Content Placeholder 1" descr="free apps q 4 sol.gif"/>
          <p:cNvPicPr/>
          <p:nvPr/>
        </p:nvPicPr>
        <p:blipFill>
          <a:blip r:embed="rId1"/>
          <a:srcRect l="0" t="-8214" r="0" b="-8214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2" descr="C:\Users\Robin\AppData\Local\Microsoft\Windows\Temporary Internet Files\Content.IE5\UKPIYV1G\MCj04421220000[1].png"/>
          <p:cNvPicPr/>
          <p:nvPr/>
        </p:nvPicPr>
        <p:blipFill>
          <a:blip r:embed="rId2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ree apps - 5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ppose there is an 8x8 grid which is numbered left to right, top to bottom. (So the second row,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entry is numbered 10.) If x is the number on the grid, develop one modular equation and one normal equation that deliver (a,b), which says that x is the a-th column and b-th row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ree apps – 5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lumn: x=a(mod 8), 0&lt;a&lt;9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ow: b=(x-a)/8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22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et Set – 2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3" name="Content Placeholder 1" descr="set q 2 sol.gif"/>
          <p:cNvPicPr/>
          <p:nvPr/>
        </p:nvPicPr>
        <p:blipFill>
          <a:blip r:embed="rId1"/>
          <a:srcRect l="0" t="-268067" r="0" b="-268067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C:\Users\Robin\AppData\Local\Microsoft\Windows\Temporary Internet Files\Content.IE5\UKPIYV1G\MCj04421220000[1].png"/>
          <p:cNvPicPr/>
          <p:nvPr/>
        </p:nvPicPr>
        <p:blipFill>
          <a:blip r:embed="rId2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et Set - 3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in a survey of 100 readers, 35 people rea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Quoi?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nd 72 people rea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Don’t,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many people read both magazines if 80 people read either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et Set – 3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429000" y="2819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0=72+35-|Q and D|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, 27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9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et Set - 4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a recent survey, 54 people own both a toaster and a microwave, while 67 people own either. If 200 people were surveyed, what is the maximum possible number of people who own only a microwave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8T13:06:01Z</dcterms:created>
  <dc:creator>Educational Technology Network</dc:creator>
  <dc:description>www.edtechnetwork.com</dc:description>
  <cp:keywords>Jeopardy Powerpoint Template;Educational Technology</cp:keywords>
  <dc:language>en-US</dc:language>
  <cp:lastModifiedBy>Frances Grote</cp:lastModifiedBy>
  <dcterms:modified xsi:type="dcterms:W3CDTF">2017-02-25T23:09:46Z</dcterms:modified>
  <cp:revision>53</cp:revision>
  <dc:subject>Jeopardy Template</dc:subject>
  <dc:title>POWERPOINT JEOPARDY</dc:title>
</cp:coreProperties>
</file>