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DAAE-B27E-4151-AF6C-84B31FF8AC4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401E-3434-4290-A1D6-D6DC6B0A8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0E1C-03BE-48D6-9C9F-83DA68087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DA82-03A6-49B7-883E-71B07E538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C4F3-2250-4099-B530-CFE4C02C6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E8D0-03F3-4657-9F72-B64381B02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0AFE-C3F0-42A0-855A-1D6E6F93E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D9CA-E92F-4A41-8040-E22BDB041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D97F-CFCD-42FA-B94C-2DB14424F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71C1-A800-419E-B5BE-9B73A00D1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42BF-7E00-422C-B822-F44242B40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576B-EDDE-4D4F-B7F4-9EECD29B6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3AE6-D164-4501-B3A3-C863ECB28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EB89-0BEB-4742-940B-CD2535744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F07D-5ACA-4A53-9F1F-10124B241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8819-A657-41BD-B37B-5A76F40A8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B2CB-FEBE-47FB-8EB6-ED8025B22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4F89-BB57-466A-BF8C-4605B3CEE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C956-02CB-4050-84D1-86FEB718C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5EF6-75CA-45AF-8A1A-51114969F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10FA-B3FB-4339-83F5-22F39E241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979C-6E1A-4D5D-B122-D2162A2EC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5C10-EAD7-4B85-89DD-688C0BEC4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FCB9-98EB-4FDF-BABA-EEE12AF7E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21E0-59EB-42F9-813D-8EC5DE3A4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D9C9-B2F3-4BE6-A8D4-B7C7CE28C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FE72-0468-48CB-B6A7-531C30C2B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6865-88A9-48F0-959A-86F1F193E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F915-51B2-42A2-A657-EF2BCC04A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7080-8ABC-4CE0-9A2B-9ED7F2FAD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FADB-5C71-4A4D-B2CE-0E796F363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DB21-17DB-41A6-B452-9E3E5513C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2ADC-F34A-4E46-9CCF-C41A28E77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8937-362A-4436-93C9-E0F7C1C52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934D-771C-45E2-9150-98AE26962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0043-1A65-4E7A-A308-4F74E91B3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CC18-DEA4-4909-8D29-C059A7B46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DB8-6BEA-4EB1-B8C3-95C94961C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6D80-A69C-467D-B343-E78768D0A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2E66-4236-447E-AB77-1E54E503F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986B-01E0-4664-9497-F243A5C3D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6857-8944-4375-8509-60DBA45A8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3103-A40E-42A1-B7AE-BCC9D3E93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FB4C-49D4-464F-A49F-0CC9AAD08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6AD6-B27D-434D-9467-252DA90CC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5710-49B3-4E25-825E-5A04EEE04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9D3F-D01B-4758-93A8-70F238D25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EBE6-3369-4749-84DC-807E74845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55EC-F038-4DD9-A9E7-A63F8C240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B6F6-F806-42F6-A01D-711A5F7E7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6458-C130-4BAE-80FE-9D546D096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A9F3-F566-4CAA-B409-1DA1EC658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C198-6B3C-46C4-A7C0-265C5D086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190-36F4-4A16-9C7D-A5853F86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0C7-1B13-4A1B-8866-52159506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0E5-E936-448B-B436-5708DF03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039-940A-4213-B391-3890684F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68C5-B384-42D5-B362-5B8A7776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E6E2-C182-41C5-BB7C-B225882C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1E68-78C3-4BF8-8756-A6B00198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E50B-A49B-4D2D-91E3-8E3536C2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8A52-5EBF-4492-B1B7-290E66B2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57E0-B130-4A05-A351-28F15B85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3F28-2577-4096-9883-C5FEC9D1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9E2-73F8-4094-BB1E-92CF557A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D23F-28A8-4E36-A745-A5D6E771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94AC-F9F7-4F7D-A69E-50C70464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0B3D-7F1F-411C-A1CC-1B34C950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7E4D-C36F-418B-8807-AAC981E8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4E52-7640-4B69-AE4B-80910649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C7B-B3FC-4DFA-BDC3-2D2F2A9E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BB6-638C-49EE-9659-6944694D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92F-86A8-42CB-84BD-03D9A562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C07C-057F-4222-B272-52B52EB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195-6EA5-494C-9800-C6BAFC54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C48-0B5B-486F-9F32-D1292EB2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AC9-0478-4A42-8647-E55F7B2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C4CB-B6DB-49D9-A4BF-C4D59C48452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170240"/>
            <a:ext cx="70898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=|M|+|T|-5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|T|=54, |M|=6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ice |M| cannot be greater than 67, since a union of two sets is the same size or larger than either 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umbers 1-20, primes make up 40%. Numbers divisible by 2 make up 50%. How many numbers (not percent) are neither prime nor divisible by 2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3" descr="set q 5 sol.gif"/>
          <p:cNvPicPr/>
          <p:nvPr/>
        </p:nvPicPr>
        <p:blipFill>
          <a:blip r:embed="rId2"/>
          <a:srcRect l="0" t="-86651" r="0" b="-8665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838080" y="5029200"/>
            <a:ext cx="2819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^^^ should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UT)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Content Placeholder 1" descr="logic q 1.gif"/>
          <p:cNvPicPr/>
          <p:nvPr/>
        </p:nvPicPr>
        <p:blipFill>
          <a:blip r:embed="rId1"/>
          <a:srcRect l="0" t="-174322" r="0" b="-17432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that statement is always true. It is actually the logic behind proof by contradic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variable in the following predicat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makes a man an earnest, caring and compassionate is his empathy; without it he is nothing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Content Placeholder 1" descr="logic q 3.gif"/>
          <p:cNvPicPr/>
          <p:nvPr/>
        </p:nvPicPr>
        <p:blipFill>
          <a:blip r:embed="rId1"/>
          <a:srcRect l="0" t="-187240" r="0" b="-18724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Content Placeholder 1" descr="logic q 5.gif"/>
          <p:cNvPicPr/>
          <p:nvPr/>
        </p:nvPicPr>
        <p:blipFill>
          <a:blip r:embed="rId1"/>
          <a:srcRect l="0" t="-33656" r="0" b="-3365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cally speak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e ter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 squ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 ap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se. p(x) is true and q(x) is fal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following proposition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wet bird never flies at nigh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’ll only catch the red eye to LA if it’s cheap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icket prices drop on Wednesday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Wednesdays we wear pink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 or false: If I’m not wearing pink I’m a wet bir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p, I’m a wet bir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Content Placeholder 1" descr="relation q 1.gif"/>
          <p:cNvPicPr/>
          <p:nvPr/>
        </p:nvPicPr>
        <p:blipFill>
          <a:blip r:embed="rId1"/>
          <a:srcRect l="0" t="-259104" r="0" b="-25910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; 0 is even, so x is not related to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antry has eggs, milk, sugar, flour, brown sugar, chocolate chips, butter, apples and cinnam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to make snickerdoodles, chocolate chip cookies and apple pi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relation x “is an ingredient of” 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y this relatio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irreflexive, antisymmetric and intransitive (not transitiv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ess you put cookies in your pie, which is either genius or mad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S be the set of my siblings (no twins) and let r be the relation x “is older than” 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r well order S? If so, what is the “least” element of 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eflexive: nobody is older than themsel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symmetric: if x is older than y, y is not older than x (since there are no twin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itive: Obvio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cessor: We can always say one is older than the o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st” element: Whoever is the oldest has the property x R y for all y not equal to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Content Placeholder 1" descr="relations q 4.gif"/>
          <p:cNvPicPr/>
          <p:nvPr/>
        </p:nvPicPr>
        <p:blipFill>
          <a:blip r:embed="rId1"/>
          <a:srcRect l="0" t="-185723" r="0" b="-18572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4" descr="sets q 1-1.png"/>
          <p:cNvPicPr/>
          <p:nvPr/>
        </p:nvPicPr>
        <p:blipFill>
          <a:blip r:embed="rId1"/>
          <a:srcRect l="5406" t="7926" r="12164" b="7902"/>
          <a:stretch/>
        </p:blipFill>
        <p:spPr>
          <a:xfrm>
            <a:off x="457200" y="3124080"/>
            <a:ext cx="3308400" cy="164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ets q 1-2.png"/>
          <p:cNvPicPr/>
          <p:nvPr/>
        </p:nvPicPr>
        <p:blipFill>
          <a:blip r:embed="rId2"/>
          <a:stretch/>
        </p:blipFill>
        <p:spPr>
          <a:xfrm>
            <a:off x="5867280" y="2971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ets q 1-3.png"/>
          <p:cNvPicPr/>
          <p:nvPr/>
        </p:nvPicPr>
        <p:blipFill>
          <a:blip r:embed="rId3"/>
          <a:srcRect l="6523" t="21566" r="27710" b="16715"/>
          <a:stretch/>
        </p:blipFill>
        <p:spPr>
          <a:xfrm>
            <a:off x="3429000" y="4800600"/>
            <a:ext cx="2163600" cy="152100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8" descr="sets q 1.gif"/>
          <p:cNvPicPr/>
          <p:nvPr/>
        </p:nvPicPr>
        <p:blipFill>
          <a:blip r:embed="rId4"/>
          <a:srcRect l="0" t="-251229" r="0" b="-251229"/>
          <a:stretch/>
        </p:blipFill>
        <p:spPr>
          <a:xfrm>
            <a:off x="380880" y="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 is antisymmetric. If Ak is in Am, k&lt;m, so by definition Am is not in Ak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Content Placeholder 1" descr="relations q 5.gif"/>
          <p:cNvPicPr/>
          <p:nvPr/>
        </p:nvPicPr>
        <p:blipFill>
          <a:blip r:embed="rId1"/>
          <a:srcRect l="0" t="-119433" r="0" b="-11943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Content Placeholder 1" descr="relations q 5 sol.gif"/>
          <p:cNvPicPr/>
          <p:nvPr/>
        </p:nvPicPr>
        <p:blipFill>
          <a:blip r:embed="rId1"/>
          <a:srcRect l="0" t="-58002" r="0" b="-5800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Content Placeholder 1" descr="mod q 1.gif"/>
          <p:cNvPicPr/>
          <p:nvPr/>
        </p:nvPicPr>
        <p:blipFill>
          <a:blip r:embed="rId1"/>
          <a:srcRect l="0" t="-332703" r="0" b="-33270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767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digit of 13^2=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digit of 17^3=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at a number is multiplied by 4. The result has remainder 2 when divided by 5. If the number is less than 15 but greater than 10, what is the numb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x=2(mod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=3(mod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&lt;x&lt;15 implies x=2(5)+3=1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3 be the last digit of any perfect squar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Content Placeholder 1" descr="mod q 3 sol.gif"/>
          <p:cNvPicPr/>
          <p:nvPr/>
        </p:nvPicPr>
        <p:blipFill>
          <a:blip r:embed="rId1"/>
          <a:srcRect l="0" t="-161728" r="0" b="-16172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Content Placeholder 1" descr="mod q 4.gif"/>
          <p:cNvPicPr/>
          <p:nvPr/>
        </p:nvPicPr>
        <p:blipFill>
          <a:blip r:embed="rId1"/>
          <a:srcRect l="0" t="-61280" r="0" b="-6128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Content Placeholder 1" descr="sets q 1-3.png"/>
          <p:cNvPicPr/>
          <p:nvPr/>
        </p:nvPicPr>
        <p:blipFill>
          <a:blip r:embed="rId1"/>
          <a:srcRect l="0" t="13287" r="0" b="1328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Content Placeholder 1" descr="mod q 4 sol.gif"/>
          <p:cNvPicPr/>
          <p:nvPr/>
        </p:nvPicPr>
        <p:blipFill>
          <a:blip r:embed="rId1"/>
          <a:srcRect l="0" t="-36345" r="0" b="-3634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2" name="Content Placeholder 1" descr="mod q 5.gif"/>
          <p:cNvPicPr/>
          <p:nvPr/>
        </p:nvPicPr>
        <p:blipFill>
          <a:blip r:embed="rId1"/>
          <a:srcRect l="0" t="-90522" r="0" b="-9052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3" descr=""/>
          <p:cNvPicPr/>
          <p:nvPr/>
        </p:nvPicPr>
        <p:blipFill>
          <a:blip r:embed="rId2"/>
          <a:stretch/>
        </p:blipFill>
        <p:spPr>
          <a:xfrm>
            <a:off x="1749600" y="1511280"/>
            <a:ext cx="5541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Content Placeholder 1" descr="mod q 5 sol.gif"/>
          <p:cNvPicPr/>
          <p:nvPr/>
        </p:nvPicPr>
        <p:blipFill>
          <a:blip r:embed="rId1"/>
          <a:srcRect l="0" t="-71597" r="0" b="-71597"/>
          <a:stretch/>
        </p:blipFill>
        <p:spPr>
          <a:xfrm>
            <a:off x="457200" y="457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762120" y="4038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is is harder than what will be on you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Tuesday. What day of the week will it be 211 days from now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nesday. 211=1(mod 7), so we will be one day further into the week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 people like pets. 11 people like dogs, 7 people like cats, and 3 people like neither. How many people like both dogs and cat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! |(AUB)’|=3, so |AUB|=18. But |AUB|=|A|+|B|-|AnB|, i.e. 18=11+7-|AnB|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ecent survey, 150 people like chocolate and dislike pie. If 200 people were surveyed, how many people dislike chocolate or like pi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-150=50. This is an application of deMorgan’s law for se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2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rank works two gears. The first gear has 5 spokes and moves 2 spokes every crank. The second gear has 7 spokes and moves 4 spokes with every crank. How many cranks are needed so that both gears are on their third spok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Content Placeholder 1" descr="set q 2.gif"/>
          <p:cNvPicPr/>
          <p:nvPr/>
        </p:nvPicPr>
        <p:blipFill>
          <a:blip r:embed="rId1"/>
          <a:srcRect l="0" t="-35579" r="0" b="-3557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Content Placeholder 1" descr="free apps q 4 sol.gif"/>
          <p:cNvPicPr/>
          <p:nvPr/>
        </p:nvPicPr>
        <p:blipFill>
          <a:blip r:embed="rId1"/>
          <a:srcRect l="0" t="-8214" r="0" b="-821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ere is an 8x8 grid which is numbered left to right, top to bottom. (So the second row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try is numbered 10.) If x is the number on the grid, develop one modular equation and one normal equation that deliver (a,b), which says that x is the a-th column and b-th r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: x=a(mod 8), 0&lt;a&lt;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: b=(x-a)/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2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Content Placeholder 1" descr="set q 2 sol.gif"/>
          <p:cNvPicPr/>
          <p:nvPr/>
        </p:nvPicPr>
        <p:blipFill>
          <a:blip r:embed="rId1"/>
          <a:srcRect l="0" t="-268067" r="0" b="-26806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n a survey of 100 readers, 35 people re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uoi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72 people re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n’t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people read both magazines if 80 people read eith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4290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=72+35-|Q and D|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2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ecent survey, 54 people own both a toaster and a microwave, while 67 people own either. If 200 people were surveyed, what is the maximum possible number of people who own only a microwa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Frances Grote</cp:lastModifiedBy>
  <dcterms:modified xsi:type="dcterms:W3CDTF">2017-02-25T23:09:46Z</dcterms:modified>
  <cp:revision>53</cp:revision>
  <dc:subject>Jeopardy Template</dc:subject>
  <dc:title>POWERPOINT JEOPARDY</dc:title>
</cp:coreProperties>
</file>