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7EEE-C2F0-4592-AA08-91677BF27C3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Educational Technology Network. www.edtechnetwork.com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9BB0-A25A-4BE1-A42C-C57CE26E74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9C34-1B6F-4EC6-AFF8-5FF52306B6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9889-D2EE-4D68-B69E-362C16A413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6F6C-C0B3-477F-B918-6D80EF6A74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91A1-4E44-45E8-929B-C1B2EA2395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518F-9616-4FEB-9A13-730B867971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F9F4-1DC8-4654-A46B-1BC6D616E2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1E03-9232-479E-BC79-0D2DE53A5C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D6B9-45EF-4830-BBCC-8F05646729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A644-F643-4D4E-8758-391D2D551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9F43-EEFC-4404-A03B-17859CEA8E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52EF-842E-4C43-B5FB-990FDC5B34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B039-284C-4F3B-9BBB-D80DE791A4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F479-F6EC-4036-94CE-E7DE0C4FAF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71F7-440C-4064-8C2F-9C6680FC66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58B4-13A4-4E84-A100-3CDBAFE8C0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AF44-B5B7-49EC-B19F-547AFE14C9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5BBC-33E1-4C1F-9A2C-53533D0E81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05E5-E714-4419-B243-36BE908C41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3A63-60AC-409C-99F3-9F6597C847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140C-89C6-404A-96BB-55CCAECEC2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EA05-5231-4122-B788-35BB8E12F5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58F1-5CA6-4D76-8E5D-F8BC5F8683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94C0-EC88-4BAB-B695-10DC796525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2908-430C-4CA3-B9F0-A743A4B519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9861-82C7-423A-BEB5-485B7C1414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97EB-B488-4597-A6A9-2AD0A7EC63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9D7E-2168-4518-AFBC-40D63D4F27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B6E4-7E8C-4D00-984B-96E2038F75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33EA-B883-4C5E-BEB0-C318D7B0E5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55FF-E5C8-44FF-9043-FECA91458A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9BE1-F6BD-4585-8064-35A61E2E49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ECC7-D593-40AB-9280-BC720EE7DE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D03B-2085-424A-B2F1-C9D489EFD7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C754-1F46-46AA-840D-090C10F771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B394-3EEC-421A-9B06-328CC87D15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6A93-77F0-4206-A5B6-D4720FF6EF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A829-CE99-44E6-AD3D-3D16F71FEC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88B3-4D13-4367-85BD-74A8431F81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0E9C-E486-4D16-9CF7-AF0D331215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4668-451C-4760-8F1E-D78DAF4422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6B0F-0D4B-405A-BA87-AF751F5700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C959-56D4-4D12-92D9-1C95542691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4695-6832-49ED-AA79-B14862BBD1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750A-1D94-4534-9701-5E3D3B59A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9655-C546-4932-ABCE-C159549EBC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E8B5-5455-4125-9041-BCE1C3E01F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9A5B-18CB-417B-A76E-3849E4CB13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A75E-4C28-4A48-8665-C9CE30A3BC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B81D-B994-4535-82B1-E27620D760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8EFE-F903-4E52-AC2E-201D849649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9F64-4F5F-4B66-91DB-2366F8E9AD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861B-119C-49DB-A9CE-522733F3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458E-0954-46AE-8A5B-5CC068A0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10A4-847B-4604-9795-4051616D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E8B5-31EA-469B-ADB2-E7AEDB646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0085-75A3-43C1-9389-F2C1A6A6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4D9B-2771-4551-8A2C-6C97C365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CFA0-FA5D-4CD3-B3D2-3C6BAF11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C631-FF7F-429B-AADC-3E68C886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2CD8-F6CA-423D-8FAE-3D1EF210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19BF-B8C6-4D7F-AD9B-1236BCCA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D317-A1A9-4A79-A765-8822DDFD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59A1-FAE8-4ACE-8E8C-B8835067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B568-2352-4AA9-B503-19F18738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C3D6-10E8-421B-8720-66F43188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170E-A25B-40E9-B604-45F97ED9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1409-C13E-47C7-973A-D899B38B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281A-BAB9-4088-9207-CFE3279E9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0229-B64C-46EB-8104-509B144F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9374-A881-4B4E-8C79-EF7DF011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72F5-AF32-4A18-B2BF-C61287C8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4E9C-BEED-4ACA-9B96-8F54445D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62C8-7190-4D9B-A8C5-A056E183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24B8-CAA6-4CF2-8AF9-F427EA49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0675-5BFA-4E15-B6C4-31FB3D91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6fb">
            <a:alpha val="2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5745-69BD-4606-949B-5B76E9AAD33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6fb">
            <a:alpha val="2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3.xml"/><Relationship Id="rId3" Type="http://schemas.openxmlformats.org/officeDocument/2006/relationships/slide" Target="slide23.xml"/><Relationship Id="rId4" Type="http://schemas.openxmlformats.org/officeDocument/2006/relationships/slide" Target="slide33.xml"/><Relationship Id="rId5" Type="http://schemas.openxmlformats.org/officeDocument/2006/relationships/slide" Target="slide43.xml"/><Relationship Id="rId6" Type="http://schemas.openxmlformats.org/officeDocument/2006/relationships/slide" Target="slide5.xml"/><Relationship Id="rId7" Type="http://schemas.openxmlformats.org/officeDocument/2006/relationships/slide" Target="slide15.xml"/><Relationship Id="rId8" Type="http://schemas.openxmlformats.org/officeDocument/2006/relationships/slide" Target="slide25.xml"/><Relationship Id="rId9" Type="http://schemas.openxmlformats.org/officeDocument/2006/relationships/slide" Target="slide35.xml"/><Relationship Id="rId10" Type="http://schemas.openxmlformats.org/officeDocument/2006/relationships/slide" Target="slide45.xml"/><Relationship Id="rId11" Type="http://schemas.openxmlformats.org/officeDocument/2006/relationships/slide" Target="slide7.xml"/><Relationship Id="rId12" Type="http://schemas.openxmlformats.org/officeDocument/2006/relationships/slide" Target="slide17.xml"/><Relationship Id="rId13" Type="http://schemas.openxmlformats.org/officeDocument/2006/relationships/slide" Target="slide27.xml"/><Relationship Id="rId14" Type="http://schemas.openxmlformats.org/officeDocument/2006/relationships/slide" Target="slide37.xml"/><Relationship Id="rId15" Type="http://schemas.openxmlformats.org/officeDocument/2006/relationships/slide" Target="slide47.xml"/><Relationship Id="rId16" Type="http://schemas.openxmlformats.org/officeDocument/2006/relationships/slide" Target="slide9.xml"/><Relationship Id="rId17" Type="http://schemas.openxmlformats.org/officeDocument/2006/relationships/slide" Target="slide19.xml"/><Relationship Id="rId18" Type="http://schemas.openxmlformats.org/officeDocument/2006/relationships/slide" Target="slide29.xml"/><Relationship Id="rId19" Type="http://schemas.openxmlformats.org/officeDocument/2006/relationships/slide" Target="slide39.xml"/><Relationship Id="rId20" Type="http://schemas.openxmlformats.org/officeDocument/2006/relationships/slide" Target="slide49.xml"/><Relationship Id="rId21" Type="http://schemas.openxmlformats.org/officeDocument/2006/relationships/slide" Target="slide11.xml"/><Relationship Id="rId22" Type="http://schemas.openxmlformats.org/officeDocument/2006/relationships/slide" Target="slide21.xml"/><Relationship Id="rId23" Type="http://schemas.openxmlformats.org/officeDocument/2006/relationships/slide" Target="slide31.xml"/><Relationship Id="rId24" Type="http://schemas.openxmlformats.org/officeDocument/2006/relationships/slide" Target="slide41.xm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JeopardyIcon5.png"/>
          <p:cNvPicPr/>
          <p:nvPr/>
        </p:nvPicPr>
        <p:blipFill>
          <a:blip r:embed="rId1"/>
          <a:stretch/>
        </p:blipFill>
        <p:spPr>
          <a:xfrm>
            <a:off x="0" y="171360"/>
            <a:ext cx="9280440" cy="386712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4" descr=""/>
          <p:cNvPicPr/>
          <p:nvPr/>
        </p:nvPicPr>
        <p:blipFill>
          <a:blip r:embed="rId2"/>
          <a:stretch/>
        </p:blipFill>
        <p:spPr>
          <a:xfrm>
            <a:off x="987480" y="4170240"/>
            <a:ext cx="708984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 Set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7=|M|+|T|-5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|T|=54, |M|=67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ice |M| cannot be greater than 67, since a union of two sets is the same size or larger than either on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4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 Set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numbers 1-20, primes make up 40%. Numbers divisible by 2 make up 50%. How many numbers (not percent) are neither prime nor divisible by 2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 Set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8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  <p:pic>
        <p:nvPicPr>
          <p:cNvPr id="119" name="Content Placeholder 3" descr="set q 5 sol.gif"/>
          <p:cNvPicPr/>
          <p:nvPr/>
        </p:nvPicPr>
        <p:blipFill>
          <a:blip r:embed="rId2"/>
          <a:srcRect l="0" t="-86651" r="0" b="-8665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838080" y="5029200"/>
            <a:ext cx="2819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^^^ should b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UT)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cally Speaking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2" name="Content Placeholder 1" descr="logic q 1.gif"/>
          <p:cNvPicPr/>
          <p:nvPr/>
        </p:nvPicPr>
        <p:blipFill>
          <a:blip r:embed="rId1"/>
          <a:srcRect l="0" t="-174322" r="0" b="-17432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cally Speaking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that statement is always true. It is actually the logic behind proof by contradic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cally Speaking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variable in the following predicat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makes a man an earnest, caring and compassionate is his empathy; without it he is nothing.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cally Speaking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path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0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cally Speaking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2" name="Content Placeholder 1" descr="logic q 3.gif"/>
          <p:cNvPicPr/>
          <p:nvPr/>
        </p:nvPicPr>
        <p:blipFill>
          <a:blip r:embed="rId1"/>
          <a:srcRect l="0" t="-187240" r="0" b="-18724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cally Speaking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cally Speaking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7" name="Content Placeholder 1" descr="logic q 5.gif"/>
          <p:cNvPicPr/>
          <p:nvPr/>
        </p:nvPicPr>
        <p:blipFill>
          <a:blip r:embed="rId1"/>
          <a:srcRect l="0" t="-33656" r="0" b="-3365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t S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gically speak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ive ter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 squ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e ap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7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8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0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1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2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3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4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cally Speaking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lse. p(x) is true and q(x) is fals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0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cally Speaking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the following proposition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wet bird never flies at nigh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’ll only catch the red eye to LA if it’s cheap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ticket prices drop on Wednesday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Wednesdays we wear pink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ue or false: If I’m not wearing pink I’m a wet bir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gically Speaking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p, I’m a wet bir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5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ve terms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7" name="Content Placeholder 1" descr="relation q 1.gif"/>
          <p:cNvPicPr/>
          <p:nvPr/>
        </p:nvPicPr>
        <p:blipFill>
          <a:blip r:embed="rId1"/>
          <a:srcRect l="0" t="-259104" r="0" b="-259104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ve terms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; 0 is even, so x is not related to x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0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ve terms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pantry has eggs, milk, sugar, flour, brown sugar, chocolate chips, butter, apples and cinnam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ant to make snickerdoodles, chocolate chip cookies and apple pi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the relation x “is an ingredient of” y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ify this relation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ve terms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irreflexive, antisymmetric and intransitive (not transitive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less you put cookies in your pie, which is either genius or madne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5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ve terms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 S be the set of my siblings (no twins) and let r be the relation x “is older than” 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r well order S? If so, what is the “least” element of 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ve terms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reflexive: nobody is older than themsel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isymmetric: if x is older than y, y is not older than x (since there are no twin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itive: Obvio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ccessor: We can always say one is older than the oth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st” element: Whoever is the oldest has the property x R y for all y not equal to x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0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ve terms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2" name="Content Placeholder 1" descr="relations q 4.gif"/>
          <p:cNvPicPr/>
          <p:nvPr/>
        </p:nvPicPr>
        <p:blipFill>
          <a:blip r:embed="rId1"/>
          <a:srcRect l="0" t="-185723" r="0" b="-18572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 Set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Picture 4" descr="sets q 1-1.png"/>
          <p:cNvPicPr/>
          <p:nvPr/>
        </p:nvPicPr>
        <p:blipFill>
          <a:blip r:embed="rId1"/>
          <a:srcRect l="5406" t="7926" r="12164" b="7902"/>
          <a:stretch/>
        </p:blipFill>
        <p:spPr>
          <a:xfrm>
            <a:off x="457200" y="3124080"/>
            <a:ext cx="3308400" cy="1646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sets q 1-2.png"/>
          <p:cNvPicPr/>
          <p:nvPr/>
        </p:nvPicPr>
        <p:blipFill>
          <a:blip r:embed="rId2"/>
          <a:stretch/>
        </p:blipFill>
        <p:spPr>
          <a:xfrm>
            <a:off x="5867280" y="297180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sets q 1-3.png"/>
          <p:cNvPicPr/>
          <p:nvPr/>
        </p:nvPicPr>
        <p:blipFill>
          <a:blip r:embed="rId3"/>
          <a:srcRect l="6523" t="21566" r="27710" b="16715"/>
          <a:stretch/>
        </p:blipFill>
        <p:spPr>
          <a:xfrm>
            <a:off x="3429000" y="4800600"/>
            <a:ext cx="2163600" cy="1521000"/>
          </a:xfrm>
          <a:prstGeom prst="rect">
            <a:avLst/>
          </a:prstGeom>
          <a:ln w="0">
            <a:noFill/>
          </a:ln>
        </p:spPr>
      </p:pic>
      <p:pic>
        <p:nvPicPr>
          <p:cNvPr id="96" name="Content Placeholder 8" descr="sets q 1.gif"/>
          <p:cNvPicPr/>
          <p:nvPr/>
        </p:nvPicPr>
        <p:blipFill>
          <a:blip r:embed="rId4"/>
          <a:srcRect l="0" t="-251229" r="0" b="-251229"/>
          <a:stretch/>
        </p:blipFill>
        <p:spPr>
          <a:xfrm>
            <a:off x="380880" y="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ve terms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 is antisymmetric. If Ak is in Am, k&lt;m, so by definition Am is not in Ak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ve terms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7" name="Content Placeholder 1" descr="relations q 5.gif"/>
          <p:cNvPicPr/>
          <p:nvPr/>
        </p:nvPicPr>
        <p:blipFill>
          <a:blip r:embed="rId1"/>
          <a:srcRect l="0" t="-119433" r="0" b="-11943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ve terms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9" name="Content Placeholder 1" descr="relations q 5 sol.gif"/>
          <p:cNvPicPr/>
          <p:nvPr/>
        </p:nvPicPr>
        <p:blipFill>
          <a:blip r:embed="rId1"/>
          <a:srcRect l="0" t="-58002" r="0" b="-5800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Users\Robin\AppData\Local\Microsoft\Windows\Temporary Internet Files\Content.IE5\UKPIYV1G\MCj04421220000[1].png"/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 squad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2" name="Content Placeholder 1" descr="mod q 1.gif"/>
          <p:cNvPicPr/>
          <p:nvPr/>
        </p:nvPicPr>
        <p:blipFill>
          <a:blip r:embed="rId1"/>
          <a:srcRect l="0" t="-332703" r="0" b="-33270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 squad 4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276720" y="2895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st digit of 13^2=9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st digit of 17^3=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, 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5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 Squad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se that a number is multiplied by 4. The result has remainder 2 when divided by 5. If the number is less than 15 but greater than 10, what is the number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 squad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x=2(mod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=3(mod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&lt;x&lt;15 implies x=2(5)+3=1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0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 Squad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3 be the last digit of any perfect squar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 Squad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4" name="Content Placeholder 1" descr="mod q 3 sol.gif"/>
          <p:cNvPicPr/>
          <p:nvPr/>
        </p:nvPicPr>
        <p:blipFill>
          <a:blip r:embed="rId1"/>
          <a:srcRect l="0" t="-161728" r="0" b="-161728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C:\Users\Robin\AppData\Local\Microsoft\Windows\Temporary Internet Files\Content.IE5\UKPIYV1G\MCj04421220000[1].png"/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 Squad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7" name="Content Placeholder 1" descr="mod q 4.gif"/>
          <p:cNvPicPr/>
          <p:nvPr/>
        </p:nvPicPr>
        <p:blipFill>
          <a:blip r:embed="rId1"/>
          <a:srcRect l="0" t="-61280" r="0" b="-6128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 Set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Content Placeholder 1" descr="sets q 1-3.png"/>
          <p:cNvPicPr/>
          <p:nvPr/>
        </p:nvPicPr>
        <p:blipFill>
          <a:blip r:embed="rId1"/>
          <a:srcRect l="0" t="13287" r="0" b="13287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Robin\AppData\Local\Microsoft\Windows\Temporary Internet Files\Content.IE5\UKPIYV1G\MCj04421220000[1].png"/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 Squad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9" name="Content Placeholder 1" descr="mod q 4 sol.gif"/>
          <p:cNvPicPr/>
          <p:nvPr/>
        </p:nvPicPr>
        <p:blipFill>
          <a:blip r:embed="rId1"/>
          <a:srcRect l="0" t="-36345" r="0" b="-36345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C:\Users\Robin\AppData\Local\Microsoft\Windows\Temporary Internet Files\Content.IE5\UKPIYV1G\MCj04421220000[1].png"/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 Squad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2" name="Content Placeholder 1" descr="mod q 5.gif"/>
          <p:cNvPicPr/>
          <p:nvPr/>
        </p:nvPicPr>
        <p:blipFill>
          <a:blip r:embed="rId1"/>
          <a:srcRect l="0" t="-90522" r="0" b="-9052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3" name="Rectangle 3" descr=""/>
          <p:cNvPicPr/>
          <p:nvPr/>
        </p:nvPicPr>
        <p:blipFill>
          <a:blip r:embed="rId2"/>
          <a:stretch/>
        </p:blipFill>
        <p:spPr>
          <a:xfrm>
            <a:off x="1749600" y="1511280"/>
            <a:ext cx="5541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 Squad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5" name="Content Placeholder 1" descr="mod q 5 sol.gif"/>
          <p:cNvPicPr/>
          <p:nvPr/>
        </p:nvPicPr>
        <p:blipFill>
          <a:blip r:embed="rId1"/>
          <a:srcRect l="0" t="-71597" r="0" b="-71597"/>
          <a:stretch/>
        </p:blipFill>
        <p:spPr>
          <a:xfrm>
            <a:off x="457200" y="457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Users\Robin\AppData\Local\Microsoft\Windows\Temporary Internet Files\Content.IE5\UKPIYV1G\MCj04421220000[1].png"/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  <p:sp>
        <p:nvSpPr>
          <p:cNvPr id="197" name="TextBox 2"/>
          <p:cNvSpPr/>
          <p:nvPr/>
        </p:nvSpPr>
        <p:spPr>
          <a:xfrm>
            <a:off x="762120" y="40384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this is harder than what will be on your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 apps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’s Tuesday. What day of the week will it be 211 days from now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 apps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dnesday. 211=1(mod 7), so we will be one day further into the week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 apps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1 people like pets. 11 people like dogs, 7 people like cats, and 3 people like neither. How many people like both dogs and cat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 apps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! |(AUB)’|=3, so |AUB|=18. But |AUB|=|A|+|B|-|AnB|, i.e. 18=11+7-|AnB|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7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 apps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 recent survey, 150 people like chocolate and dislike pie. If 200 people were surveyed, how many people dislike chocolate or like pi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 apps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-150=50. This is an application of deMorgan’s law for se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2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 apps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rank works two gears. The first gear has 5 spokes and moves 2 spokes every crank. The second gear has 7 spokes and moves 4 spokes with every crank. How many cranks are needed so that both gears are on their third spok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 Set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Content Placeholder 1" descr="set q 2.gif"/>
          <p:cNvPicPr/>
          <p:nvPr/>
        </p:nvPicPr>
        <p:blipFill>
          <a:blip r:embed="rId1"/>
          <a:srcRect l="0" t="-35579" r="0" b="-35579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 apps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6" name="Content Placeholder 1" descr="free apps q 4 sol.gif"/>
          <p:cNvPicPr/>
          <p:nvPr/>
        </p:nvPicPr>
        <p:blipFill>
          <a:blip r:embed="rId1"/>
          <a:srcRect l="0" t="-8214" r="0" b="-8214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C:\Users\Robin\AppData\Local\Microsoft\Windows\Temporary Internet Files\Content.IE5\UKPIYV1G\MCj04421220000[1].png"/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 apps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se there is an 8x8 grid which is numbered left to right, top to bottom. (So the second row,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ntry is numbered 10.) If x is the number on the grid, develop one modular equation and one normal equation that deliver (a,b), which says that x is the a-th column and b-th row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 apps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umn: x=a(mod 8), 0&lt;a&lt;9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w: b=(x-a)/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2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 Set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Content Placeholder 1" descr="set q 2 sol.gif"/>
          <p:cNvPicPr/>
          <p:nvPr/>
        </p:nvPicPr>
        <p:blipFill>
          <a:blip r:embed="rId1"/>
          <a:srcRect l="0" t="-268067" r="0" b="-268067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Robin\AppData\Local\Microsoft\Windows\Temporary Internet Files\Content.IE5\UKPIYV1G\MCj04421220000[1].png"/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 Set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in a survey of 100 readers, 35 people rea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Quoi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72 people rea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on’t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any people read both magazines if 80 people read either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 Set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42900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0=72+35-|Q and D|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, 27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 Set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 recent survey, 54 people own both a toaster and a microwave, while 67 people own either. If 200 people were surveyed, what is the maximum possible number of people who own only a microwav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3:06:01Z</dcterms:created>
  <dc:creator>Educational Technology Network</dc:creator>
  <dc:description>www.edtechnetwork.com</dc:description>
  <cp:keywords>Jeopardy Powerpoint Template;Educational Technology</cp:keywords>
  <dc:language>en-US</dc:language>
  <cp:lastModifiedBy>Frances Grote</cp:lastModifiedBy>
  <dcterms:modified xsi:type="dcterms:W3CDTF">2017-02-25T23:09:46Z</dcterms:modified>
  <cp:revision>53</cp:revision>
  <dc:subject>Jeopardy Template</dc:subject>
  <dc:title>POWERPOINT JEOPARDY</dc:title>
</cp:coreProperties>
</file>