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8096-FCA1-4C8E-BD8B-D5466062FA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F72-E73A-40F3-AD6B-C8C20EEF2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43CF-77FD-43BF-A52D-E68E7A21F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98A-A225-4835-803A-7108802D2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2109-88A7-415F-8570-210FAC33C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A29C-83ED-468E-9540-CA1B222C1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44EA-694A-41E5-89EE-E945B63D3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C3A-CA4C-4361-A205-CEB1517BE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22E-B7C2-419D-9209-135A89F75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19F0-D3B0-4CDD-98D5-877FD9113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1B3F-05AD-44C6-BDA1-F135777DF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075F-E1A1-440D-8628-856383AA4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C64F-813C-4953-9FA5-C91AB673A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E19A-03EB-4329-AEE7-C2C95A423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64B7-2817-47E1-99F1-698F8D823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CB92-2497-4BA5-BB8A-8BAC4B9C1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6A89-E42E-4DDD-A08B-21C880BDC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E69F-8DF4-496B-BF9D-01A886280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C63F-644E-4D76-B538-9079E26AB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CD32-8241-4368-AB31-87EC4A893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FED-4716-4478-A471-59F581DA2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9567-CF86-4ABC-B298-B4CF48B59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14BC-D0F0-402B-9ACC-7568C642E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1864-7A63-41D8-905F-BC64A8BF4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6E5D-E4F2-4935-AD0A-74D8666A4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A13-F022-4F3C-8801-CCFF45BEB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FDE8-88D9-4C5D-8FFD-BA450727E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76DA-AD8E-4059-A6C4-F7DB94AF9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41AC-DFEA-4FDE-9E38-5A3E622CC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CF9-555A-444B-A890-B32FFD538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F288-7E6A-427A-9A2E-982745D05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A138-BE54-47FC-A8C4-FA0FD9526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83C3-F83F-452D-803A-C234ADCD5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4F2E-6EAD-4738-B642-1E541895E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6DD9-AC33-40D2-B312-935E2CBC2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5A6C-2814-4926-92D5-1DE8329FB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8C51-955A-4AFE-8A8F-E53A10704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C9E4-A1BF-445A-9512-BAA82D4A8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7765-0C8B-40E9-8CDA-AB81B5C66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D93C-1274-4C11-A98A-A69CA4673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9ED2-D2FD-45C6-A34A-444755955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7019-1FFE-4ACE-9855-2FD8AB44C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8F41-FE5A-4A40-BE65-4BD58EC3A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4A9E-C9E5-47BC-B0F0-3F4B09C42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D094-04A9-464C-897A-1EE6EAF68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091E-F4B2-45EB-AF02-5F745A98E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53F-5A12-4A54-A55F-C44F80640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1308-13D6-4E8A-9E5E-9AC8AB394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5547-C86B-434D-A1AE-0F3AC9FD0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3544-428E-41C1-A1CD-2570606E9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2187-0082-44A9-93E5-314F5DEB5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C1E1-BD33-4390-A539-4B28D4412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0CCB-7EEE-4B7A-82C5-C8A2A094A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FBA-50DC-47DD-8637-0FC3838A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54F-B519-4374-ACC9-64E8CE37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A67-2D22-40B1-AA49-66967247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461-639D-49E4-B00F-40876EDA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F6EB-892A-4B0D-9A32-27B43846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5710-155E-4953-BB06-DDE7F85A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D54D-B207-47B0-9B2B-30E039F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A21C-87F6-4CBF-B765-18DE9F36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A9AA-9624-4541-A3C0-67432080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FE2E-7F43-41C4-A3D2-57994B1E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8888-4ED4-48D3-8DD5-D972A33D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9D0-27A1-42B1-B192-1832297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0A4F-E32A-4170-A565-8829DABF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DA80-B367-4753-A549-10336019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C87A-0663-43E7-8EB5-319922AC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4F75-9C99-40A8-9C10-C1C22825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1699-9BDE-4450-BD5B-A5090FC2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AE4-DBE2-4EC1-886C-27ACD134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2EA-ED26-4656-B2FA-6C30984B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D68-6FDB-4D32-B5E2-5EE0E86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91D-632F-410E-937E-73B3CF78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632-4961-4103-97C6-4462E35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667-5B5B-485C-BC02-5FE9460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C2E-12F5-4653-96D8-D129937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A17D-0594-424E-B953-ABBBBABFB1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170240"/>
            <a:ext cx="70898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=|M|+|T|-5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|T|=54, |M|=6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ce |M| cannot be greater than 67, since a union of two sets is the same size or larger than either 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umbers 1-20, primes make up 40%. Numbers divisible by 2 make up 50%. How many numbers (not percent) are neither prime nor divisible by 2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3" descr="set q 5 sol.gif"/>
          <p:cNvPicPr/>
          <p:nvPr/>
        </p:nvPicPr>
        <p:blipFill>
          <a:blip r:embed="rId2"/>
          <a:srcRect l="0" t="-86651" r="0" b="-8665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838080" y="5029200"/>
            <a:ext cx="2819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^^^ should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T)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Content Placeholder 1" descr="logic q 1.gif"/>
          <p:cNvPicPr/>
          <p:nvPr/>
        </p:nvPicPr>
        <p:blipFill>
          <a:blip r:embed="rId1"/>
          <a:srcRect l="0" t="-174322" r="0" b="-17432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that statement is always true. It is actually the logic behind proof by contradic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variable in the following predicat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makes a man an earnest, caring and compassionate is his empathy; without it he is nothing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Content Placeholder 1" descr="logic q 3.gif"/>
          <p:cNvPicPr/>
          <p:nvPr/>
        </p:nvPicPr>
        <p:blipFill>
          <a:blip r:embed="rId1"/>
          <a:srcRect l="0" t="-187240" r="0" b="-18724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Content Placeholder 1" descr="logic q 5.gif"/>
          <p:cNvPicPr/>
          <p:nvPr/>
        </p:nvPicPr>
        <p:blipFill>
          <a:blip r:embed="rId1"/>
          <a:srcRect l="0" t="-33656" r="0" b="-3365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cally speak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 ter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 squ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 ap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se. p(x) is true and q(x) is fal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following propositio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et bird never flies at nigh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ll only catch the red eye to LA if it’s cheap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icket prices drop on Wednesday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Wednesdays we wear pin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 or false: If I’m not wearing pink I’m a wet bi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p, I’m a wet bi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Content Placeholder 1" descr="relation q 1.gif"/>
          <p:cNvPicPr/>
          <p:nvPr/>
        </p:nvPicPr>
        <p:blipFill>
          <a:blip r:embed="rId1"/>
          <a:srcRect l="0" t="-259104" r="0" b="-25910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; 0 is even, so x is not related to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antry has eggs, milk, sugar, flour, brown sugar, chocolate chips, butter, apples and cinnam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to make snickerdoodles, chocolate chip cookies and apple p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relation x “is an ingredient of” 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y this rela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irreflexive, antisymmetric and intransitive (not transitiv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 you put cookies in your pie, which is either genius or mad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S be the set of my siblings (no twins) and let r be the relation x “is older than” 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r well order S? If so, what is the “least” element of 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eflexive: nobody is older than themsel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symmetric: if x is older than y, y is not older than x (since there are no twin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itive: Obvio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cessor: We can always say one is older than the o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st” element: Whoever is the oldest has the property x R y for all y not equal to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Content Placeholder 1" descr="relations q 4.gif"/>
          <p:cNvPicPr/>
          <p:nvPr/>
        </p:nvPicPr>
        <p:blipFill>
          <a:blip r:embed="rId1"/>
          <a:srcRect l="0" t="-185723" r="0" b="-18572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4" descr="sets q 1-1.png"/>
          <p:cNvPicPr/>
          <p:nvPr/>
        </p:nvPicPr>
        <p:blipFill>
          <a:blip r:embed="rId1"/>
          <a:srcRect l="5406" t="7926" r="12164" b="7902"/>
          <a:stretch/>
        </p:blipFill>
        <p:spPr>
          <a:xfrm>
            <a:off x="457200" y="3124080"/>
            <a:ext cx="3308400" cy="164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ets q 1-2.png"/>
          <p:cNvPicPr/>
          <p:nvPr/>
        </p:nvPicPr>
        <p:blipFill>
          <a:blip r:embed="rId2"/>
          <a:stretch/>
        </p:blipFill>
        <p:spPr>
          <a:xfrm>
            <a:off x="5867280" y="2971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ets q 1-3.png"/>
          <p:cNvPicPr/>
          <p:nvPr/>
        </p:nvPicPr>
        <p:blipFill>
          <a:blip r:embed="rId3"/>
          <a:srcRect l="6523" t="21566" r="27710" b="16715"/>
          <a:stretch/>
        </p:blipFill>
        <p:spPr>
          <a:xfrm>
            <a:off x="3429000" y="4800600"/>
            <a:ext cx="2163600" cy="152100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8" descr="sets q 1.gif"/>
          <p:cNvPicPr/>
          <p:nvPr/>
        </p:nvPicPr>
        <p:blipFill>
          <a:blip r:embed="rId4"/>
          <a:srcRect l="0" t="-251229" r="0" b="-251229"/>
          <a:stretch/>
        </p:blipFill>
        <p:spPr>
          <a:xfrm>
            <a:off x="380880" y="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 is antisymmetric. If Ak is in Am, k&lt;m, so by definition Am is not in Ak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Content Placeholder 1" descr="relations q 5.gif"/>
          <p:cNvPicPr/>
          <p:nvPr/>
        </p:nvPicPr>
        <p:blipFill>
          <a:blip r:embed="rId1"/>
          <a:srcRect l="0" t="-119433" r="0" b="-11943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Content Placeholder 1" descr="relations q 5 sol.gif"/>
          <p:cNvPicPr/>
          <p:nvPr/>
        </p:nvPicPr>
        <p:blipFill>
          <a:blip r:embed="rId1"/>
          <a:srcRect l="0" t="-58002" r="0" b="-5800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Content Placeholder 1" descr="mod q 1.gif"/>
          <p:cNvPicPr/>
          <p:nvPr/>
        </p:nvPicPr>
        <p:blipFill>
          <a:blip r:embed="rId1"/>
          <a:srcRect l="0" t="-332703" r="0" b="-33270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767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digit of 13^2=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digit of 17^3=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at a number is multiplied by 4. The result has remainder 2 when divided by 5. If the number is less than 15 but greater than 10, what is the numb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x=2(mod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3(mod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&lt;x&lt;15 implies x=2(5)+3=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3 be the last digit of any perfect squar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Content Placeholder 1" descr="mod q 3 sol.gif"/>
          <p:cNvPicPr/>
          <p:nvPr/>
        </p:nvPicPr>
        <p:blipFill>
          <a:blip r:embed="rId1"/>
          <a:srcRect l="0" t="-161728" r="0" b="-16172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Content Placeholder 1" descr="mod q 4.gif"/>
          <p:cNvPicPr/>
          <p:nvPr/>
        </p:nvPicPr>
        <p:blipFill>
          <a:blip r:embed="rId1"/>
          <a:srcRect l="0" t="-61280" r="0" b="-6128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Content Placeholder 1" descr="sets q 1-3.png"/>
          <p:cNvPicPr/>
          <p:nvPr/>
        </p:nvPicPr>
        <p:blipFill>
          <a:blip r:embed="rId1"/>
          <a:srcRect l="0" t="13287" r="0" b="1328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Content Placeholder 1" descr="mod q 4 sol.gif"/>
          <p:cNvPicPr/>
          <p:nvPr/>
        </p:nvPicPr>
        <p:blipFill>
          <a:blip r:embed="rId1"/>
          <a:srcRect l="0" t="-36345" r="0" b="-3634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Content Placeholder 1" descr="mod q 5.gif"/>
          <p:cNvPicPr/>
          <p:nvPr/>
        </p:nvPicPr>
        <p:blipFill>
          <a:blip r:embed="rId1"/>
          <a:srcRect l="0" t="-90522" r="0" b="-9052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3" descr=""/>
          <p:cNvPicPr/>
          <p:nvPr/>
        </p:nvPicPr>
        <p:blipFill>
          <a:blip r:embed="rId2"/>
          <a:stretch/>
        </p:blipFill>
        <p:spPr>
          <a:xfrm>
            <a:off x="1749600" y="1511280"/>
            <a:ext cx="5541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Content Placeholder 1" descr="mod q 5 sol.gif"/>
          <p:cNvPicPr/>
          <p:nvPr/>
        </p:nvPicPr>
        <p:blipFill>
          <a:blip r:embed="rId1"/>
          <a:srcRect l="0" t="-71597" r="0" b="-71597"/>
          <a:stretch/>
        </p:blipFill>
        <p:spPr>
          <a:xfrm>
            <a:off x="457200" y="457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762120" y="4038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is harder than what will be on you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Tuesday. What day of the week will it be 211 days from now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nesday. 211=1(mod 7), so we will be one day further into the wee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 people like pets. 11 people like dogs, 7 people like cats, and 3 people like neither. How many people like both dogs and ca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! |(AUB)’|=3, so |AUB|=18. But |AUB|=|A|+|B|-|AnB|, i.e. 18=11+7-|AnB|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nt survey, 150 people like chocolate and dislike pie. If 200 people were surveyed, how many people dislike chocolate or like pi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-150=50. This is an application of deMorgan’s law for se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2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rank works two gears. The first gear has 5 spokes and moves 2 spokes every crank. The second gear has 7 spokes and moves 4 spokes with every crank. How many cranks are needed so that both gears are on their third spok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Content Placeholder 1" descr="set q 2.gif"/>
          <p:cNvPicPr/>
          <p:nvPr/>
        </p:nvPicPr>
        <p:blipFill>
          <a:blip r:embed="rId1"/>
          <a:srcRect l="0" t="-35579" r="0" b="-3557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Content Placeholder 1" descr="free apps q 4 sol.gif"/>
          <p:cNvPicPr/>
          <p:nvPr/>
        </p:nvPicPr>
        <p:blipFill>
          <a:blip r:embed="rId1"/>
          <a:srcRect l="0" t="-8214" r="0" b="-821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ere is an 8x8 grid which is numbered left to right, top to bottom. (So the second row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try is numbered 10.) If x is the number on the grid, develop one modular equation and one normal equation that deliver (a,b), which says that x is the a-th column and b-th r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: x=a(mod 8), 0&lt;a&lt;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: b=(x-a)/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2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Content Placeholder 1" descr="set q 2 sol.gif"/>
          <p:cNvPicPr/>
          <p:nvPr/>
        </p:nvPicPr>
        <p:blipFill>
          <a:blip r:embed="rId1"/>
          <a:srcRect l="0" t="-268067" r="0" b="-26806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n a survey of 100 readers, 35 people 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uoi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72 people 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n’t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people read both magazines if 80 people read eith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290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=72+35-|Q and D|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2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nt survey, 54 people own both a toaster and a microwave, while 67 people own either. If 200 people were surveyed, what is the maximum possible number of people who own only a microwa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Frances Grote</cp:lastModifiedBy>
  <dcterms:modified xsi:type="dcterms:W3CDTF">2017-02-25T23:09:46Z</dcterms:modified>
  <cp:revision>53</cp:revision>
  <dc:subject>Jeopardy Template</dc:subject>
  <dc:title>POWERPOINT JEOPARDY</dc:title>
</cp:coreProperties>
</file>